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6C9-0329-4510-89B0-F9E11969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D29-12F2-45AC-8E46-93E215F0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7D2-EA99-4718-84BC-5A4DA3C1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091-2984-49C4-B1CE-F98DFFB2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3A2-050B-41E3-B31F-F69C1841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513-A536-4EC1-B12D-EEDBA7C2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C6E-FA8F-4831-8C7C-DC839CF2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533-FE7A-4027-BD16-955117BA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CE1-DBA1-419E-BA69-4581390E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255-FDB8-4477-AC38-383D1522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A07-47C6-4FF3-A244-C7659CE9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39C-0A8C-4632-8738-AF2A919B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D1B4-A3C3-4839-8E12-989E5B059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ation – how Grace reveals her characters i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Structu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 Letters/narrative/parallel structure/diary/climax shows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Physical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ialogue – direct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onflict (inter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onflict (exter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ontrast – between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nteraction – with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Style – language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Structure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he Letters/narrative/parallel structure/diary/climax shows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Physical descri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637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Dialogue – 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62864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onflict (inter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Conflict (extern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Contrast – between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Interaction – with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Style – language ch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3:14:06Z</dcterms:created>
  <dc:creator>tomhaig</dc:creator>
  <dc:description/>
  <dc:language>en-US</dc:language>
  <cp:lastModifiedBy>tomhaig</cp:lastModifiedBy>
  <dcterms:modified xsi:type="dcterms:W3CDTF">2007-10-15T23:20:10Z</dcterms:modified>
  <cp:revision>2</cp:revision>
  <dc:subject/>
  <dc:title>Characterisation – how Grace reveals her characters in Tu.</dc:title>
</cp:coreProperties>
</file>